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E043-2657-4DC4-A8A9-5B515F7454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eacher decides which one she/he did and class have to guess – reverse roles if tim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D9722-D7A0-4F5B-B7A3-363CB6816AF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FACC-6D5D-4D80-905F-E72C3B71C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3712-9AE0-4EBE-9DFA-26735286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AF16-6296-46A5-8909-C11E88B71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B43A-76B2-44DE-BA52-4F3DE3C15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378F-9C5B-4377-96F2-421B4753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F7AE-0D62-4D33-A034-F002EC0B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F000-0B62-4582-AD1E-9BD558A1C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F0FF-36E2-4EDF-9BAF-E2EBAFC26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66CD-CB6A-4078-AEC4-037127CA3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E17D-AC72-4A10-A030-23D6D4A2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8E36-61CA-43C6-A36E-90B6B098A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E507-FB11-4B9A-BA5F-76C4F3D03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B1A6-593F-4A3B-9805-AAD0F4753D1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Qu’est-ce qu’on a fa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earning objectiv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alking about the present and past, using extended sente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Box 2"/>
          <p:cNvSpPr/>
          <p:nvPr/>
        </p:nvSpPr>
        <p:spPr>
          <a:xfrm>
            <a:off x="-1440" y="836640"/>
            <a:ext cx="6040440" cy="5205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’ai acheté des vêtements à West Qua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3"/>
          <p:cNvSpPr/>
          <p:nvPr/>
        </p:nvSpPr>
        <p:spPr>
          <a:xfrm>
            <a:off x="2489760" y="1844640"/>
            <a:ext cx="6569280" cy="5205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’ai regardé un match de foot à Portsmouth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4"/>
          <p:cNvSpPr/>
          <p:nvPr/>
        </p:nvSpPr>
        <p:spPr>
          <a:xfrm>
            <a:off x="5025960" y="2997360"/>
            <a:ext cx="4071600" cy="9471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suis allé à Southampt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 tra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11520" y="0"/>
            <a:ext cx="416304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ez les phrases qui sont vra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6"/>
          <p:cNvSpPr/>
          <p:nvPr/>
        </p:nvSpPr>
        <p:spPr>
          <a:xfrm>
            <a:off x="5305680" y="4437000"/>
            <a:ext cx="339192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suis allé à Eastleig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 auto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355320" y="5732640"/>
            <a:ext cx="54536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ne ne suis pas allé à Sout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0" descr="westquay-thumb-375x500-47641.jpg"/>
          <p:cNvPicPr/>
          <p:nvPr/>
        </p:nvPicPr>
        <p:blipFill>
          <a:blip r:embed="rId1"/>
          <a:stretch/>
        </p:blipFill>
        <p:spPr>
          <a:xfrm>
            <a:off x="179280" y="1508040"/>
            <a:ext cx="2160720" cy="2881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1" descr="westwood_796149c.jpg"/>
          <p:cNvPicPr/>
          <p:nvPr/>
        </p:nvPicPr>
        <p:blipFill>
          <a:blip r:embed="rId2"/>
          <a:stretch/>
        </p:blipFill>
        <p:spPr>
          <a:xfrm>
            <a:off x="1908000" y="3573360"/>
            <a:ext cx="2848320" cy="178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2"/>
          <p:cNvSpPr/>
          <p:nvPr/>
        </p:nvSpPr>
        <p:spPr>
          <a:xfrm>
            <a:off x="43560" y="765000"/>
            <a:ext cx="7979040" cy="5205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’ai regardé le match de rugby – Italie contre la F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5152680" y="3068640"/>
            <a:ext cx="2215440" cy="5205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alie a gagné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4"/>
          <p:cNvSpPr/>
          <p:nvPr/>
        </p:nvSpPr>
        <p:spPr>
          <a:xfrm>
            <a:off x="5082840" y="1916280"/>
            <a:ext cx="2753280" cy="5205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 France a gag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11520" y="0"/>
            <a:ext cx="416304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ez les phrases qui sont vra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5002920" y="4149720"/>
            <a:ext cx="360360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 France n’a pas gag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7"/>
          <p:cNvSpPr/>
          <p:nvPr/>
        </p:nvSpPr>
        <p:spPr>
          <a:xfrm>
            <a:off x="473400" y="5373720"/>
            <a:ext cx="55346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n’ai pas regardé le match de rug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10035899-france-italy.jpg"/>
          <p:cNvPicPr/>
          <p:nvPr/>
        </p:nvPicPr>
        <p:blipFill>
          <a:blip r:embed="rId1"/>
          <a:stretch/>
        </p:blipFill>
        <p:spPr>
          <a:xfrm>
            <a:off x="317520" y="1646280"/>
            <a:ext cx="4392720" cy="32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2"/>
          <p:cNvSpPr/>
          <p:nvPr/>
        </p:nvSpPr>
        <p:spPr>
          <a:xfrm>
            <a:off x="206280" y="836640"/>
            <a:ext cx="6336000" cy="5205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l y a eu un tremblement de terre au Jap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"/>
          <p:cNvSpPr/>
          <p:nvPr/>
        </p:nvSpPr>
        <p:spPr>
          <a:xfrm>
            <a:off x="4454640" y="1773360"/>
            <a:ext cx="4345920" cy="5205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l y a eu un tsunami au Jap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4649760" y="3429000"/>
            <a:ext cx="3914640" cy="9471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’ai vu le tremblement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terre à la télévis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5"/>
          <p:cNvSpPr/>
          <p:nvPr/>
        </p:nvSpPr>
        <p:spPr>
          <a:xfrm>
            <a:off x="11520" y="0"/>
            <a:ext cx="416304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ez les phrases qui sont vra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6"/>
          <p:cNvSpPr/>
          <p:nvPr/>
        </p:nvSpPr>
        <p:spPr>
          <a:xfrm>
            <a:off x="0" y="4869000"/>
            <a:ext cx="896472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l n’y a pas eu de tremblement de terre Jap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"/>
          <p:cNvSpPr/>
          <p:nvPr/>
        </p:nvSpPr>
        <p:spPr>
          <a:xfrm>
            <a:off x="20520" y="6093000"/>
            <a:ext cx="778536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n’ai pas vu le tremblement de terre à la télé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9" descr="japan_tsunami_footage-789306.jpg"/>
          <p:cNvPicPr/>
          <p:nvPr/>
        </p:nvPicPr>
        <p:blipFill>
          <a:blip r:embed="rId1"/>
          <a:stretch/>
        </p:blipFill>
        <p:spPr>
          <a:xfrm>
            <a:off x="324000" y="1557360"/>
            <a:ext cx="3384360" cy="2592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0" descr="Japan%20Earthquake%20Map%202011.jpg"/>
          <p:cNvPicPr/>
          <p:nvPr/>
        </p:nvPicPr>
        <p:blipFill>
          <a:blip r:embed="rId2"/>
          <a:stretch/>
        </p:blipFill>
        <p:spPr>
          <a:xfrm>
            <a:off x="2411280" y="2505240"/>
            <a:ext cx="2016360" cy="22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2"/>
          <p:cNvSpPr/>
          <p:nvPr/>
        </p:nvSpPr>
        <p:spPr>
          <a:xfrm>
            <a:off x="25920" y="836640"/>
            <a:ext cx="7561440" cy="5205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lin firth et Natalie Portman ont gagné des Osc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4706280" y="1773360"/>
            <a:ext cx="4419000" cy="13737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olin firth et Natalie Port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’ont pas gagné d’Osca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4650480" y="3429000"/>
            <a:ext cx="4635360" cy="9471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’ai vu la cérémonie des Osc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la télévis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11520" y="0"/>
            <a:ext cx="416304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ez les phrases qui sont vra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6"/>
          <p:cNvSpPr/>
          <p:nvPr/>
        </p:nvSpPr>
        <p:spPr>
          <a:xfrm>
            <a:off x="0" y="4869000"/>
            <a:ext cx="89647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n’ai pas vu la cérémonie des Oscars  à la télé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7"/>
          <p:cNvSpPr/>
          <p:nvPr/>
        </p:nvSpPr>
        <p:spPr>
          <a:xfrm>
            <a:off x="14760" y="6093000"/>
            <a:ext cx="779004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n’ai pas vu le film qui s’appelle ‘The King’s Speech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9" descr="Colin firth.jpg"/>
          <p:cNvPicPr/>
          <p:nvPr/>
        </p:nvPicPr>
        <p:blipFill>
          <a:blip r:embed="rId1"/>
          <a:stretch/>
        </p:blipFill>
        <p:spPr>
          <a:xfrm>
            <a:off x="250920" y="1484280"/>
            <a:ext cx="2566800" cy="16574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Natalie Portman.jpg"/>
          <p:cNvPicPr/>
          <p:nvPr/>
        </p:nvPicPr>
        <p:blipFill>
          <a:blip r:embed="rId2"/>
          <a:stretch/>
        </p:blipFill>
        <p:spPr>
          <a:xfrm>
            <a:off x="2820960" y="2276640"/>
            <a:ext cx="1773360" cy="23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2"/>
          <p:cNvSpPr/>
          <p:nvPr/>
        </p:nvSpPr>
        <p:spPr>
          <a:xfrm>
            <a:off x="21960" y="836640"/>
            <a:ext cx="7604280" cy="5205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n Egypte et en Lybie on a manifesté pour la libert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4693320" y="1773360"/>
            <a:ext cx="4400640" cy="13737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On n’a pas manifesté pour 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iberté en Egypte ou en Lyb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4"/>
          <p:cNvSpPr/>
          <p:nvPr/>
        </p:nvSpPr>
        <p:spPr>
          <a:xfrm>
            <a:off x="4643280" y="3429000"/>
            <a:ext cx="3762000" cy="9471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’ai vu les manife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la télévision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5"/>
          <p:cNvSpPr/>
          <p:nvPr/>
        </p:nvSpPr>
        <p:spPr>
          <a:xfrm>
            <a:off x="11520" y="0"/>
            <a:ext cx="416304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ez les phrases qui sont vra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6"/>
          <p:cNvSpPr/>
          <p:nvPr/>
        </p:nvSpPr>
        <p:spPr>
          <a:xfrm>
            <a:off x="0" y="4869000"/>
            <a:ext cx="8964720" cy="52056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n’ai pas vu les manifestations à la télévis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0" descr="Lybie.jpg"/>
          <p:cNvPicPr/>
          <p:nvPr/>
        </p:nvPicPr>
        <p:blipFill>
          <a:blip r:embed="rId1"/>
          <a:stretch/>
        </p:blipFill>
        <p:spPr>
          <a:xfrm>
            <a:off x="250920" y="1413000"/>
            <a:ext cx="2493720" cy="1655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2" descr="Egypt.jpg"/>
          <p:cNvPicPr/>
          <p:nvPr/>
        </p:nvPicPr>
        <p:blipFill>
          <a:blip r:embed="rId2"/>
          <a:stretch/>
        </p:blipFill>
        <p:spPr>
          <a:xfrm>
            <a:off x="1692360" y="2852640"/>
            <a:ext cx="2700360" cy="1800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Lybia.jpg"/>
          <p:cNvPicPr/>
          <p:nvPr/>
        </p:nvPicPr>
        <p:blipFill>
          <a:blip r:embed="rId3"/>
          <a:stretch/>
        </p:blipFill>
        <p:spPr>
          <a:xfrm>
            <a:off x="2916360" y="1413000"/>
            <a:ext cx="1150920" cy="115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4" descr="egypt1.jpg"/>
          <p:cNvPicPr/>
          <p:nvPr/>
        </p:nvPicPr>
        <p:blipFill>
          <a:blip r:embed="rId4"/>
          <a:stretch/>
        </p:blipFill>
        <p:spPr>
          <a:xfrm>
            <a:off x="395280" y="2924280"/>
            <a:ext cx="129708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2"/>
          <p:cNvSpPr/>
          <p:nvPr/>
        </p:nvSpPr>
        <p:spPr>
          <a:xfrm>
            <a:off x="23760" y="836640"/>
            <a:ext cx="4711680" cy="5205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suis allé à un concert de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2387160" y="1989000"/>
            <a:ext cx="6715800" cy="9471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suis allé à un concert de musique class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2376000" y="3357720"/>
            <a:ext cx="5107680" cy="94716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ne suis pas allé à un concert d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usique class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5"/>
          <p:cNvSpPr/>
          <p:nvPr/>
        </p:nvSpPr>
        <p:spPr>
          <a:xfrm>
            <a:off x="11520" y="0"/>
            <a:ext cx="4163040" cy="459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Lisez les phrases qui sont vra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6"/>
          <p:cNvSpPr/>
          <p:nvPr/>
        </p:nvSpPr>
        <p:spPr>
          <a:xfrm>
            <a:off x="0" y="4869000"/>
            <a:ext cx="8964720" cy="947160"/>
          </a:xfrm>
          <a:prstGeom prst="rect">
            <a:avLst/>
          </a:prstGeom>
          <a:solidFill>
            <a:srgbClr val="ffff0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ne suis pas allé à un concert de r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1" descr="Stone run.jpg"/>
          <p:cNvPicPr/>
          <p:nvPr/>
        </p:nvPicPr>
        <p:blipFill>
          <a:blip r:embed="rId1"/>
          <a:stretch/>
        </p:blipFill>
        <p:spPr>
          <a:xfrm>
            <a:off x="179280" y="1628640"/>
            <a:ext cx="201636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ositive and neg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’ai jou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’ai regard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’ai 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l y a e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suis all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n’ai pas jou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’nai pas regard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n’ai pas v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l n’y a pas e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Je ne suis pas all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3T15:37:44Z</dcterms:created>
  <dc:creator>ge</dc:creator>
  <dc:description/>
  <dc:language>en-US</dc:language>
  <cp:lastModifiedBy>Jo Rhys-Jones</cp:lastModifiedBy>
  <dcterms:modified xsi:type="dcterms:W3CDTF">2011-03-16T17:29:12Z</dcterms:modified>
  <cp:revision>12</cp:revision>
  <dc:subject/>
  <dc:title>Qu’est-ce qu’on a fait pendant les vacances?</dc:title>
</cp:coreProperties>
</file>